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CC36-F090-4993-9E09-79684D808E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s (Below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The 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s (Below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The 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Law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Law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Physic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Physic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Science/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Science/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Problem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Problem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All Subje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All Subje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Teach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Teach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Diploma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Diploma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– Know It All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– Know It All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- The Educated Min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- The Educated Min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0EA-07BB-4E09-A4E8-25FA9ED5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3A2-6906-4670-9324-1C4D1D63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48E-68FD-4675-9881-30AC6FA6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FE8-B61F-45CA-85DF-77A1D900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090-8929-42E7-B14C-F9BDB944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AE2-03B1-4930-8274-976ADEEE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8D1-E21C-4CBE-A374-ECADD474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254-A6A4-43FD-9144-4C744434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A9D-42E6-4D20-BDF8-7E4772F8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CC6-57AB-4136-8999-1E4C315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909-4E05-46F2-BF5E-22740C2A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FE3-A5F6-4FE6-96A2-F00969C6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CFEF-CEF7-4700-96E3-67A1D2277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en.kranz@gmail.com" TargetMode="External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2880" y="22824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</a:t>
            </a:r>
            <a:br>
              <a:rPr sz="6000"/>
            </a:br>
            <a:r>
              <a:rPr b="0" lang="en-US" sz="3100" spc="-1" strike="noStrike" u="sng">
                <a:solidFill>
                  <a:srgbClr val="ffffb7"/>
                </a:solidFill>
                <a:uFillTx/>
                <a:latin typeface="Arial Black"/>
              </a:rPr>
              <a:t>Click On Links (Below)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938760" y="6993000"/>
            <a:ext cx="231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ntact The 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41480" y="2133720"/>
          <a:ext cx="7848360" cy="4114800"/>
        </p:xfrm>
        <a:graphic>
          <a:graphicData uri="http://schemas.openxmlformats.org/drawingml/2006/table">
            <a:tbl>
              <a:tblPr/>
              <a:tblGrid>
                <a:gridCol w="3025800"/>
                <a:gridCol w="2361960"/>
                <a:gridCol w="2460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54">
            <a:hlinkClick r:id="" action="ppaction://hlinkshowjump?jump=endshow"/>
          </p:cNvPr>
          <p:cNvSpPr/>
          <p:nvPr/>
        </p:nvSpPr>
        <p:spPr>
          <a:xfrm>
            <a:off x="8737560" y="6934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75384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Law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at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at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usic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usic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03040" y="12952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Physics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Science/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Problems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All Subjects</a:t>
            </a: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67752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670880" y="6400800"/>
          <a:ext cx="2133360" cy="9414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The Teacher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The Diplomat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3945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ff66"/>
                          </a:solidFill>
                          <a:latin typeface="Arial Black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99ff66"/>
                          </a:solidFill>
                          <a:latin typeface="Arial Black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Know It All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Certain Days/Class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03040" y="1236600"/>
            <a:ext cx="9753840" cy="410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Certain Days/Class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03040" y="1301760"/>
            <a:ext cx="9753840" cy="404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The Educated Mind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75384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Ken Kranz</dc:creator>
  <dc:description/>
  <dc:language>en-US</dc:language>
  <cp:lastModifiedBy>RomaK</cp:lastModifiedBy>
  <dcterms:modified xsi:type="dcterms:W3CDTF">2015-09-02T09:47:14Z</dcterms:modified>
  <cp:revision>33</cp:revision>
  <dc:subject/>
  <dc:title>PowerPoint Presentation</dc:title>
</cp:coreProperties>
</file>